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63C-1095-4930-9C5E-95AB4E7E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DB0-D56D-4320-87AB-EC83F1A1786C}" type="slidenum">
              <a:rPr b="0" lang="en-GB" sz="1200" spc="-1" strike="noStrike">
                <a:solidFill>
                  <a:srgbClr val="1d17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1108-B1D2-40A8-A40E-AF4F7E73DFC9}" type="slidenum">
              <a:rPr b="0" lang="en-US" sz="1200" spc="-1" strike="noStrike">
                <a:solidFill>
                  <a:srgbClr val="1d17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6AF0-8993-4022-A2D6-D58E5B8DE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D692-B837-47E2-AC1B-81349439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41A8B-14C0-4A4B-8427-C73613EC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C3E5B-6DE2-4954-929A-45B0848A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D8990-11B0-4612-80C0-CD2A6B2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0E81B-3377-4673-82C8-DAF4879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CEB12-38E9-4143-8613-373F449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44136-4FEA-4889-BE02-0BB4FED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14758-BD99-4AB1-94CB-A1347E2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BBB28-A3BB-42F7-BBAB-18BFA373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357F6-0382-40F6-BCF5-4461F8E8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8C9C6-C26D-4D7B-B525-87DD140C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A16A-1B67-4C94-9909-BD77BCC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3AAE6E-2EA1-4001-82B7-AFEDD473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0A7D62-7CE5-4099-A3E9-D961775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C38347-3CCB-457A-BA91-891D4775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8DAEC-0D39-4C07-8C23-54F98297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550832-EFAA-48D2-818D-51302E2B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F192B9-493E-4250-BD27-1EABBAF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D66A9-61B7-4BC1-9720-226A7E1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091B0-E94D-4109-9DDF-F9A1F9A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64F0D-0B8E-491E-9BBB-3BCDD06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86914-15BA-4C66-B406-98151166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2627-4EA3-4700-B54A-540CFB75D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C52E8-66CA-40C5-A891-084E8ECA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E772C8-7058-4638-84B8-9E6B96DD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7D9970-57BB-451A-AF44-30F0447A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593BBC-7E1D-47FE-8B95-BBB61857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8E57A9-4AD7-4295-A054-C83F60D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764B44-97B1-4147-95C3-C5411EA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76E7A9-1244-4E4B-B818-10FDFE57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2338C6-800F-4197-BDF6-B9C4734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23B454-8451-4E47-955E-7B58EC9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4A3449-59FB-448B-A0A9-761286C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3788-9A8E-4877-8968-45A24BC7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A2857-EF99-4083-AE48-F078C4B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79788-D6CC-42AB-AA27-3534DF9F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C10A85-AFF6-4481-B8BD-AA6DB7AF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A93BF3-08FA-4810-AAC3-BC50B9EC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C1A9E3-4AFD-42D9-9910-6B7CBA8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5A307-2EDE-4B83-81F2-45C049F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6ADCF3-0D4C-4DB7-AE81-8FE6EDD2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6C2B1-32E6-43BD-84BB-A08E83F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6BDFD8-CFAD-4102-9E87-DDB30FDD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5DF9D1-B854-4808-8DFB-F1B12DF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96F3-F882-491F-AE9A-7590C83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0ACE29-A87E-46E4-9EA0-8B6476D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187FC2-831E-4264-8613-D1ABEE8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F12261-53AB-4DDE-8945-A71EE4BC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B3B858-B832-4006-8394-5AD39BB2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0DC3FE-219E-4E21-98AF-AB714643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EC095-E9F3-40E2-9521-F32E731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5FA9-33C3-4D37-BD50-F40C012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394C4-2FCE-4516-869D-7B0DF25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834C0-4CCF-4F70-A9C4-C6073B8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35C5C-BEB5-4A74-897F-ABBD3B6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A98B-F837-4F69-90FF-E249C29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921D4-413E-4EEA-9BE4-268F712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04FA2-F99F-41FC-A647-0347252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BDBE9-8E59-4E7C-9BD7-A466D12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D447C-D949-4588-A18F-8A53666D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C47C-82F9-45FA-883D-99649DDA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87175-ADC8-463C-9190-04234B3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D0DBD-7357-4C62-87CF-3F8FA9B3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6FB3E-148A-4A7C-8ECF-33DBF36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BD2CB-2CDB-455F-9E31-99819150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4F094-4105-4DA3-A114-9BAF52F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3643-476B-492D-8CDA-34287ED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98B2F-F1B0-4BE1-9E92-5C84576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E6A42-50E5-413B-B2BE-58505D3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56FD8-F2AA-4BCB-8AA3-C4D8D4D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D152B-9D10-4743-861A-9056ED4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5BD91-1550-4BBA-9FE9-73C5C3D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8230C-1AC1-4205-B81D-D849F33D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A360F-B5E4-4480-BDAC-1E6B0BC4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EBC85-3BE3-4705-819F-C8F71273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AC991-40A9-4065-92A8-FC7D4E1E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E0810-80E4-461B-B5A4-98DE510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E094-0F32-452B-A676-D9E5853B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2F740-E5F2-4FE0-99E3-D31D4CB2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75115-B9A2-4959-B3C6-F4E9D537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29C73-A432-4332-9F97-15A4227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8C761-BAC5-4103-B6C0-C718279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49790-CE60-479C-8EE4-9B69894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D22FA-6C8B-446D-91F5-978DDC47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2065E-FF3B-434D-A1CA-4EA111C6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4A447-31E2-40FC-87A9-590FF66A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E90CC-0029-46C6-AEF0-EE88507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49FFC-4141-4CBA-8BB0-26D7B77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DE4B-4E91-473E-8D31-6FE54705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95B7F-7BAA-460A-938A-A7FC9CC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60621-C825-4987-AE4A-A77E6DC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910AA-7AB0-4B55-AF89-DC292922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3243C-0E93-454F-87FC-CF64D63D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924EF-06FB-45BA-8828-60D26D4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5D639-39E6-4003-AFFC-8AACF40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F703F-FECA-4C5C-8244-63694F6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D4F29-3291-4C4A-8646-8B94FFB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4E859-8308-4E26-8588-F805E92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64422-C62A-4C70-BA6E-EDDF1995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C432-5933-4BDB-9FA4-03615792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86EB6-8C2E-4916-9023-4DED779E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A223A-4C74-4CBC-95D2-DB150F44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E7D51-F452-4591-9EFC-067ECF1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49E3A-E99C-4AD5-ABEE-E4C8FB8E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50461-FD83-475D-A532-0660BD9A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E74EE-96ED-447C-9150-BE13B41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34FF1-FC54-4916-AB57-D6394CF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23286-E47E-465B-BA48-FC4E1B8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87A61-88F2-489F-B6FF-419EFF6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E1439-A6F8-4D9B-85E1-7507817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B9A5-B12E-404A-BA4D-1A52FB02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A7915-1752-4961-9559-A04C0A7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D9E8D-0089-4667-A0A1-5951FF60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84394-6370-47F4-891A-150F47ED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87BAD-E159-49EC-8F9D-8C0667E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6F125-AB19-4293-B3BF-C11943C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AA765-FE33-4347-898F-EAC552CC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C898F-8240-47FE-A13E-54863FC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68AC4-2CA0-4815-88EA-F62C94C3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6DC56-B846-4E27-A77C-8CF7F77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EC4F1-57BB-4B4C-BE5A-FFAFD30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9663-392D-46A4-AA2C-6BE09302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B461F-8A88-4780-A78D-C14E949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06B6A-2109-4D1A-BCA9-B24E624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4B6C1-63BB-4C2C-885F-700C292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75342-9383-4245-82D5-BEFB33EA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89D83-770E-47DD-984D-6446FE55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A5314-646A-4554-A482-90278C02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30159-AE0D-441B-8258-DC3C8C0C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3CE3C-8B89-44BE-B563-A403F76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7B89B-A4AB-48A1-B6F0-9EA9829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9DA38-51F2-45B4-BF73-0D37EB9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BDB1-EE2E-48C9-B908-3D5C08D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F1732-982F-4998-A0BF-3CD0AFB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1625DE-F4FB-4FAC-90D5-2D18380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FC456-81AA-4C1B-8C01-180C1DF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9F491-F0FD-485B-9734-DD31980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C914B-3515-47F2-9B9F-25ABF8D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2CF19-D2F5-45AD-9F09-A5638B4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41B3D-B0CE-44D1-8669-8E4A4719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05F30B-E647-487B-95D6-308AACBA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C0F60E-B3C0-4941-A5DC-5A40663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76B78-B0A2-4D63-9E77-866F8C4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955F-2619-4407-A0F2-322754D49CA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0865-3066-4568-A28A-E90485183559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F7D6-6F92-463A-B0DC-749F6AADCBAB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3505320" y="632412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58672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38E-806B-4FB9-BDDD-DFD9768BFBA8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E1F-787A-4680-8ABB-59A1A4375DAD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FD69-D8BC-41C5-B937-BC518360B615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2FC-B5FC-4254-949E-D2BBC8BE8BD6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0E2-5A63-43D7-B374-367430BB1130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42CF-A7A9-4939-8436-71566169FB15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AF91-E4F3-4BFE-BBFB-55F65EEA3C7C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FA7-3D72-48A6-B41A-033267F85091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D71-8D7B-422C-82FB-FE557F5AD27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8"/>
          <p:cNvSpPr/>
          <p:nvPr/>
        </p:nvSpPr>
        <p:spPr>
          <a:xfrm>
            <a:off x="304920" y="1905120"/>
            <a:ext cx="8534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d1756"/>
                </a:solidFill>
                <a:uFillTx/>
                <a:latin typeface="Calibri"/>
                <a:ea typeface="Arial"/>
              </a:rPr>
              <a:t>Obj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children will learn or accomplish?(specific goal/objective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Standard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ich standard will I meet?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TCCO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ich Curriculum Objective will I use to meet the Standard? (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Curriculum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drives the instruction to meet the 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Standard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Activity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activity will I plan to teach the skill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Procedure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How will I teach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 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Beginning of the lesson: Introduce the lesson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During the lesson: Involve children actively participate into the lesson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End of lesson: How do I know the children learn (quick assessment as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     children transition to the next activity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Materials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will I use to teach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  <a:ea typeface="Arial"/>
              </a:rPr>
              <a:t>Lesson Planning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304920" y="228600"/>
          <a:ext cx="8610480" cy="632304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549000">
                <a:tc grid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               </a:t>
                      </a:r>
                      <a:r>
                        <a:rPr b="1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mall Group Lesson</a:t>
                      </a:r>
                      <a:endParaRPr b="0" lang="en-US" sz="3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10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name few basic two-dimensional shapes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troduce the shapes (triangle and square) to the students. 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hen demonstrate how to use the straws to form triangle and square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create shapes with the straws to match a shape they see on the tabl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take turn to pick two shapes and name them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, geometric  shapes (tangrams), and straws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M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 b. 3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identify and describe basic shapes when moved, 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the students to take a look at the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angrams (triangle, square, and rectangle) let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explo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alk about the names of the shapes and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what their attributes a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name shapes when moved,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make their own shapes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nd describe the shapes when moved, turned and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 : geometric  shapes(tangrams) and straws/pipe cleaner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.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b. 5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04920" y="304920"/>
            <a:ext cx="84945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756"/>
                </a:solidFill>
                <a:latin typeface="Constantia"/>
              </a:rPr>
              <a:t>Sample WGL Plan </a:t>
            </a:r>
            <a:endParaRPr b="0" lang="en-US" sz="2400" spc="-1" strike="noStrike">
              <a:solidFill>
                <a:srgbClr val="1d1756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756"/>
                </a:solidFill>
                <a:latin typeface="Constantia"/>
              </a:rPr>
              <a:t>(PreK-</a:t>
            </a:r>
            <a:r>
              <a:rPr b="1" lang="en-US" sz="2000" spc="-1" strike="noStrike">
                <a:solidFill>
                  <a:srgbClr val="1d1756"/>
                </a:solidFill>
                <a:latin typeface="Calibri"/>
              </a:rPr>
              <a:t>4)</a:t>
            </a:r>
            <a:endParaRPr b="0" lang="en-US" sz="20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Activity:  Trees Count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Learning Objective: Students will recognize words that rhyme in a text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Procedures: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mind children that rhyming words have the same ending sound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pg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3 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and emphasize the words that rhyme (fun/one) and children will repeat the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each page and ask children to say the words that rhyme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close the lesson by asking children to recall rhyming words from the text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If children are able, T will ask them to </a:t>
            </a:r>
            <a:r>
              <a:rPr b="1" i="1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produce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 additional rhyming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Materials: Trees Count (Big book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TCCO: 15a (Notices and discriminates rhyme)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RF.PK.2a (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Recognize and produce simple rhyming words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5:40:28Z</dcterms:created>
  <dc:creator>ggarbeck</dc:creator>
  <dc:description/>
  <dc:language>en-US</dc:language>
  <cp:lastModifiedBy>Asma, Farida</cp:lastModifiedBy>
  <cp:lastPrinted>2014-11-04T20:09:28Z</cp:lastPrinted>
  <dcterms:modified xsi:type="dcterms:W3CDTF">2015-10-07T00:01:47Z</dcterms:modified>
  <cp:revision>194</cp:revision>
  <dc:subject/>
  <dc:title>Slide 1</dc:title>
</cp:coreProperties>
</file>